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BAC1-F4E2-42A4-878C-658AE65DC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2FC8-C62F-47ED-905D-BCA288E84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7078-6337-47F9-BD5D-F37AFAD96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F27C-B113-45D2-BD1D-D67AAA42F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5BAD-48F5-4289-9D47-F8249FD66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369F-3F56-495E-BBF7-AF1D5FA1B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91B8-6B7B-4999-9753-C9CA62D4F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8B3E-01AE-4752-8806-F1E9A0466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396E-D113-4A63-BD3D-D6F5B8EA0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96F5-90B1-41E4-A16B-5C3956721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E8E4-28CD-4AE2-8617-F42D2A12D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BA6B-81BF-439D-A63A-E61CC90E5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Cordia Ne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Cordia Ne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Cordia Ne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D206C-F64A-4C4D-A320-6E49734745AA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Cordia 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image" Target="../media/image6.jpeg"/><Relationship Id="rId9" Type="http://schemas.openxmlformats.org/officeDocument/2006/relationships/image" Target="../media/image7.jpe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56760" y="1428480"/>
            <a:ext cx="1079640" cy="12603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ffff"/>
                </a:solidFill>
                <a:latin typeface="Calibri"/>
              </a:rPr>
              <a:t>รูปขนาด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3.5x3 c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500 kb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itle 1"/>
          <p:cNvSpPr/>
          <p:nvPr/>
        </p:nvSpPr>
        <p:spPr>
          <a:xfrm>
            <a:off x="0" y="71280"/>
            <a:ext cx="914400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"/>
              </a:rPr>
              <a:t>TATC ROBO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Subtitle 2"/>
          <p:cNvSpPr/>
          <p:nvPr/>
        </p:nvSpPr>
        <p:spPr>
          <a:xfrm>
            <a:off x="0" y="857160"/>
            <a:ext cx="9144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600" spc="-1" strike="noStrike">
                <a:solidFill>
                  <a:srgbClr val="ffffff"/>
                </a:solidFill>
                <a:latin typeface="Calibri"/>
                <a:cs typeface="Cordia New"/>
              </a:rPr>
              <a:t>วิทยาลัยเทคนิคสัตหีบ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itle 1"/>
          <p:cNvSpPr/>
          <p:nvPr/>
        </p:nvSpPr>
        <p:spPr>
          <a:xfrm>
            <a:off x="2206800" y="1428840"/>
            <a:ext cx="1079280" cy="126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ffff"/>
                </a:solidFill>
                <a:latin typeface="Calibri"/>
              </a:rPr>
              <a:t>รูปขนาด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3.5x3 c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500 k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itle 1"/>
          <p:cNvSpPr/>
          <p:nvPr/>
        </p:nvSpPr>
        <p:spPr>
          <a:xfrm>
            <a:off x="4071960" y="1428840"/>
            <a:ext cx="1079640" cy="126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ffff"/>
                </a:solidFill>
                <a:latin typeface="Calibri"/>
              </a:rPr>
              <a:t>รูปขนาด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3.5x3 c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500 k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itle 1"/>
          <p:cNvSpPr/>
          <p:nvPr/>
        </p:nvSpPr>
        <p:spPr>
          <a:xfrm>
            <a:off x="5929200" y="1428840"/>
            <a:ext cx="1079640" cy="126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ffff"/>
                </a:solidFill>
                <a:latin typeface="Calibri"/>
              </a:rPr>
              <a:t>รูปขนาด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3.5x3 c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500 k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itle 1"/>
          <p:cNvSpPr/>
          <p:nvPr/>
        </p:nvSpPr>
        <p:spPr>
          <a:xfrm>
            <a:off x="7707240" y="1428840"/>
            <a:ext cx="1079640" cy="126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ffff"/>
                </a:solidFill>
                <a:latin typeface="Calibri"/>
              </a:rPr>
              <a:t>รูปขนาด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3.5x3 c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500 k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itle 1"/>
          <p:cNvSpPr/>
          <p:nvPr/>
        </p:nvSpPr>
        <p:spPr>
          <a:xfrm>
            <a:off x="320760" y="3049560"/>
            <a:ext cx="4680000" cy="2879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Calibri"/>
              </a:rPr>
              <a:t>รูปหุ่นยนต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itle 1"/>
          <p:cNvSpPr/>
          <p:nvPr/>
        </p:nvSpPr>
        <p:spPr>
          <a:xfrm>
            <a:off x="5214960" y="3071880"/>
            <a:ext cx="3600360" cy="216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Calibri"/>
              </a:rPr>
              <a:t>รูป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U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1"/>
          <p:cNvSpPr/>
          <p:nvPr/>
        </p:nvSpPr>
        <p:spPr>
          <a:xfrm>
            <a:off x="142920" y="2714760"/>
            <a:ext cx="1500120" cy="2764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Calibri"/>
                <a:cs typeface="Cordia New"/>
              </a:rPr>
              <a:t>นายเสกสรร  ศรีจันทร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6"/>
          <p:cNvSpPr/>
          <p:nvPr/>
        </p:nvSpPr>
        <p:spPr>
          <a:xfrm>
            <a:off x="7500960" y="2714760"/>
            <a:ext cx="1500120" cy="2764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Calibri"/>
                <a:cs typeface="Cordia New"/>
              </a:rPr>
              <a:t>นายนิรนาม  สังข์เทีย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7"/>
          <p:cNvSpPr/>
          <p:nvPr/>
        </p:nvSpPr>
        <p:spPr>
          <a:xfrm>
            <a:off x="5715000" y="2714760"/>
            <a:ext cx="1500120" cy="641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rial"/>
              </a:rPr>
              <a:t>นายธัญลักษณ์  นามวงษ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8"/>
          <p:cNvSpPr/>
          <p:nvPr/>
        </p:nvSpPr>
        <p:spPr>
          <a:xfrm>
            <a:off x="3857760" y="2714760"/>
            <a:ext cx="1500120" cy="459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Calibri"/>
                <a:cs typeface="Cordia New"/>
              </a:rPr>
              <a:t>นายปภาวิชญ์   ศรีบริสุทธิ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9"/>
          <p:cNvSpPr/>
          <p:nvPr/>
        </p:nvSpPr>
        <p:spPr>
          <a:xfrm>
            <a:off x="2000160" y="2714760"/>
            <a:ext cx="1500120" cy="2764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Calibri"/>
                <a:cs typeface="Cordia New"/>
              </a:rPr>
              <a:t>นายอภินันท์  วัลลิสุต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352440" y="1441440"/>
          <a:ext cx="1079640" cy="1257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2440" y="1441440"/>
                    <a:ext cx="1079640" cy="12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5216400" y="3087720"/>
          <a:ext cx="3594240" cy="2158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216400" y="3087720"/>
                    <a:ext cx="3594240" cy="21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9" name="" descr=""/>
          <p:cNvPicPr/>
          <p:nvPr/>
        </p:nvPicPr>
        <p:blipFill>
          <a:blip r:embed="rId6"/>
          <a:stretch/>
        </p:blipFill>
        <p:spPr>
          <a:xfrm>
            <a:off x="2195640" y="1413000"/>
            <a:ext cx="1114200" cy="12952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7"/>
          <a:stretch/>
        </p:blipFill>
        <p:spPr>
          <a:xfrm>
            <a:off x="4067280" y="1413000"/>
            <a:ext cx="1109520" cy="12952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8"/>
          <a:stretch/>
        </p:blipFill>
        <p:spPr>
          <a:xfrm>
            <a:off x="7686720" y="1413000"/>
            <a:ext cx="1114560" cy="12952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9"/>
          <a:stretch/>
        </p:blipFill>
        <p:spPr>
          <a:xfrm>
            <a:off x="5911920" y="1413000"/>
            <a:ext cx="1111320" cy="1295280"/>
          </a:xfrm>
          <a:prstGeom prst="rect">
            <a:avLst/>
          </a:prstGeom>
          <a:ln w="0">
            <a:noFill/>
          </a:ln>
        </p:spPr>
      </p:pic>
      <p:pic>
        <p:nvPicPr>
          <p:cNvPr id="63" name="รูปภาพ 7" descr="Assem1.JPG"/>
          <p:cNvPicPr/>
          <p:nvPr/>
        </p:nvPicPr>
        <p:blipFill>
          <a:blip r:embed="rId10"/>
          <a:srcRect l="0" t="0" r="0" b="-80"/>
          <a:stretch/>
        </p:blipFill>
        <p:spPr>
          <a:xfrm>
            <a:off x="380880" y="3059280"/>
            <a:ext cx="460872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2:38:21Z</dcterms:created>
  <dc:creator>pymta</dc:creator>
  <dc:description/>
  <dc:language>en-US</dc:language>
  <cp:lastModifiedBy>seksan</cp:lastModifiedBy>
  <dcterms:modified xsi:type="dcterms:W3CDTF">2009-10-02T07:43:36Z</dcterms:modified>
  <cp:revision>38</cp:revision>
  <dc:subject/>
  <dc:title>Slide 1</dc:title>
</cp:coreProperties>
</file>